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7C3-319C-406A-ABCB-FDFE2861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4AB-FDA3-4AB6-8386-18714F36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7C3-5077-4713-9976-484C3726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E9B-0B89-414C-8005-23D7DC62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E6D6-F6DC-4114-A184-33293433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19A1-A37F-4669-A0F2-B0253C9B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3559-C4C5-4853-B8A3-AD5EE53A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4E3C-8FC1-4BEB-A152-1B163CE1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7AB7-E7B5-4025-A4DC-633A88B4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201E-94EC-485D-995B-9EB701D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18D7-0872-46AE-8C0A-1098544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59E-F00C-4A44-80B0-AA16158F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F5E1-B7FE-4BA4-81EE-2697009F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7032-4652-4C2B-A19F-D992EAEB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505C-9BE3-40C8-A66F-1C92B73D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5734-D9BD-4858-82C0-200A3267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12E0-590B-4D03-9DDA-2F1AAA20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0E6-68DA-463A-B74D-CD6CE275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053-B544-41E2-9005-F24277CE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09F-152B-4488-ACD4-D9D12808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CD1-9010-480C-86A3-F2226609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798-EF89-46EF-B52C-8874C22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FDE-DC6E-4A96-9A7E-C542E9DC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26B-A9B2-4DA9-BCE2-6B3D0054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00D6-378B-4656-BD71-C49287E1A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54E0-3526-410C-AAEF-A71AE7D77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 Midwest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 Handle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3276720" y="34290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klahoma, Oklahoma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ut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soup in the pan.  He wanted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P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t the soup in the p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3276720" y="29718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nsas, Tope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 shaped state / president shot.  Lincoln in the state of Nebrask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3200400" y="266688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braska, Lincol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he was shot, he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 thirsty.  He asked for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er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a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3124080" y="22860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th Dakota, Pier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bt he was hungry as well.  Asked for pancakes made from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squ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>
            <a:off x="3124080" y="18288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th Dakota, Bismar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7"/>
          <p:cNvSpPr/>
          <p:nvPr/>
        </p:nvSpPr>
        <p:spPr>
          <a:xfrm>
            <a:off x="3657600" y="1828800"/>
            <a:ext cx="1498680" cy="2995560"/>
          </a:xfrm>
          <a:custGeom>
            <a:avLst/>
            <a:gdLst/>
            <a:ahLst/>
            <a:rect l="l" t="t" r="r" b="b"/>
            <a:pathLst>
              <a:path w="944" h="1887">
                <a:moveTo>
                  <a:pt x="112" y="0"/>
                </a:moveTo>
                <a:cubicBezTo>
                  <a:pt x="106" y="74"/>
                  <a:pt x="103" y="147"/>
                  <a:pt x="85" y="219"/>
                </a:cubicBezTo>
                <a:cubicBezTo>
                  <a:pt x="86" y="293"/>
                  <a:pt x="0" y="717"/>
                  <a:pt x="158" y="768"/>
                </a:cubicBezTo>
                <a:cubicBezTo>
                  <a:pt x="165" y="825"/>
                  <a:pt x="176" y="869"/>
                  <a:pt x="194" y="923"/>
                </a:cubicBezTo>
                <a:cubicBezTo>
                  <a:pt x="197" y="932"/>
                  <a:pt x="213" y="929"/>
                  <a:pt x="222" y="932"/>
                </a:cubicBezTo>
                <a:cubicBezTo>
                  <a:pt x="228" y="951"/>
                  <a:pt x="244" y="967"/>
                  <a:pt x="249" y="987"/>
                </a:cubicBezTo>
                <a:cubicBezTo>
                  <a:pt x="262" y="1040"/>
                  <a:pt x="259" y="1075"/>
                  <a:pt x="277" y="1124"/>
                </a:cubicBezTo>
                <a:cubicBezTo>
                  <a:pt x="280" y="1338"/>
                  <a:pt x="128" y="1696"/>
                  <a:pt x="331" y="1764"/>
                </a:cubicBezTo>
                <a:cubicBezTo>
                  <a:pt x="370" y="1803"/>
                  <a:pt x="399" y="1811"/>
                  <a:pt x="450" y="1828"/>
                </a:cubicBezTo>
                <a:cubicBezTo>
                  <a:pt x="593" y="1825"/>
                  <a:pt x="754" y="1887"/>
                  <a:pt x="880" y="1819"/>
                </a:cubicBezTo>
                <a:cubicBezTo>
                  <a:pt x="944" y="1784"/>
                  <a:pt x="876" y="1673"/>
                  <a:pt x="871" y="1600"/>
                </a:cubicBezTo>
                <a:cubicBezTo>
                  <a:pt x="867" y="1549"/>
                  <a:pt x="797" y="1503"/>
                  <a:pt x="779" y="1453"/>
                </a:cubicBezTo>
                <a:cubicBezTo>
                  <a:pt x="786" y="1330"/>
                  <a:pt x="767" y="1269"/>
                  <a:pt x="843" y="1188"/>
                </a:cubicBezTo>
                <a:cubicBezTo>
                  <a:pt x="837" y="1038"/>
                  <a:pt x="864" y="976"/>
                  <a:pt x="770" y="887"/>
                </a:cubicBezTo>
                <a:cubicBezTo>
                  <a:pt x="749" y="824"/>
                  <a:pt x="765" y="846"/>
                  <a:pt x="734" y="813"/>
                </a:cubicBezTo>
                <a:cubicBezTo>
                  <a:pt x="714" y="757"/>
                  <a:pt x="690" y="699"/>
                  <a:pt x="679" y="640"/>
                </a:cubicBezTo>
                <a:cubicBezTo>
                  <a:pt x="663" y="552"/>
                  <a:pt x="668" y="491"/>
                  <a:pt x="587" y="439"/>
                </a:cubicBezTo>
                <a:cubicBezTo>
                  <a:pt x="553" y="334"/>
                  <a:pt x="568" y="403"/>
                  <a:pt x="578" y="228"/>
                </a:cubicBezTo>
                <a:cubicBezTo>
                  <a:pt x="574" y="179"/>
                  <a:pt x="595" y="117"/>
                  <a:pt x="560" y="82"/>
                </a:cubicBezTo>
                <a:cubicBezTo>
                  <a:pt x="553" y="75"/>
                  <a:pt x="542" y="77"/>
                  <a:pt x="533" y="73"/>
                </a:cubicBezTo>
                <a:cubicBezTo>
                  <a:pt x="428" y="21"/>
                  <a:pt x="416" y="34"/>
                  <a:pt x="258" y="27"/>
                </a:cubicBezTo>
                <a:cubicBezTo>
                  <a:pt x="193" y="5"/>
                  <a:pt x="240" y="19"/>
                  <a:pt x="112" y="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629400" y="175248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nneso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– ow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ssou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– rkan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- ous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7"/>
          <p:cNvSpPr/>
          <p:nvPr/>
        </p:nvSpPr>
        <p:spPr>
          <a:xfrm>
            <a:off x="3817800" y="1892160"/>
            <a:ext cx="841680" cy="938520"/>
          </a:xfrm>
          <a:custGeom>
            <a:avLst/>
            <a:gdLst/>
            <a:ahLst/>
            <a:rect l="l" t="t" r="r" b="b"/>
            <a:pathLst>
              <a:path w="530" h="591">
                <a:moveTo>
                  <a:pt x="411" y="280"/>
                </a:moveTo>
                <a:cubicBezTo>
                  <a:pt x="422" y="149"/>
                  <a:pt x="402" y="167"/>
                  <a:pt x="512" y="152"/>
                </a:cubicBezTo>
                <a:cubicBezTo>
                  <a:pt x="509" y="131"/>
                  <a:pt x="511" y="108"/>
                  <a:pt x="502" y="88"/>
                </a:cubicBezTo>
                <a:cubicBezTo>
                  <a:pt x="498" y="78"/>
                  <a:pt x="483" y="77"/>
                  <a:pt x="475" y="70"/>
                </a:cubicBezTo>
                <a:cubicBezTo>
                  <a:pt x="389" y="0"/>
                  <a:pt x="243" y="19"/>
                  <a:pt x="146" y="15"/>
                </a:cubicBezTo>
                <a:cubicBezTo>
                  <a:pt x="73" y="21"/>
                  <a:pt x="22" y="1"/>
                  <a:pt x="0" y="70"/>
                </a:cubicBezTo>
                <a:cubicBezTo>
                  <a:pt x="3" y="91"/>
                  <a:pt x="8" y="112"/>
                  <a:pt x="9" y="134"/>
                </a:cubicBezTo>
                <a:cubicBezTo>
                  <a:pt x="14" y="225"/>
                  <a:pt x="11" y="317"/>
                  <a:pt x="18" y="408"/>
                </a:cubicBezTo>
                <a:cubicBezTo>
                  <a:pt x="20" y="427"/>
                  <a:pt x="36" y="463"/>
                  <a:pt x="36" y="463"/>
                </a:cubicBezTo>
                <a:cubicBezTo>
                  <a:pt x="39" y="487"/>
                  <a:pt x="31" y="516"/>
                  <a:pt x="45" y="536"/>
                </a:cubicBezTo>
                <a:cubicBezTo>
                  <a:pt x="56" y="552"/>
                  <a:pt x="100" y="554"/>
                  <a:pt x="100" y="554"/>
                </a:cubicBezTo>
                <a:cubicBezTo>
                  <a:pt x="222" y="551"/>
                  <a:pt x="353" y="591"/>
                  <a:pt x="466" y="545"/>
                </a:cubicBezTo>
                <a:cubicBezTo>
                  <a:pt x="530" y="519"/>
                  <a:pt x="463" y="386"/>
                  <a:pt x="420" y="371"/>
                </a:cubicBezTo>
                <a:cubicBezTo>
                  <a:pt x="411" y="345"/>
                  <a:pt x="390" y="316"/>
                  <a:pt x="411" y="289"/>
                </a:cubicBezTo>
                <a:cubicBezTo>
                  <a:pt x="418" y="280"/>
                  <a:pt x="438" y="282"/>
                  <a:pt x="438" y="271"/>
                </a:cubicBezTo>
                <a:cubicBezTo>
                  <a:pt x="438" y="262"/>
                  <a:pt x="420" y="277"/>
                  <a:pt x="411" y="28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629400" y="19810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MAL i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name i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  He drink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nni So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nesota, St. Pa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324480" y="235584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s a gambling problem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ow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ow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 mo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3832200" y="2516040"/>
            <a:ext cx="88416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6324480" y="4400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owa,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got in a fight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ff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hit in the stomach and i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4038480" y="2971800"/>
            <a:ext cx="88452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ssouri, Jeffe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248520" y="266688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ikes to collect th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ttle R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 his poc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6"/>
          <p:cNvSpPr/>
          <p:nvPr/>
        </p:nvSpPr>
        <p:spPr>
          <a:xfrm>
            <a:off x="4191120" y="342900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kansas, Little R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ear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se Boo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4267080" y="396252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uisiana, Baton Rou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xt Aus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6"/>
          <p:cNvSpPr/>
          <p:nvPr/>
        </p:nvSpPr>
        <p:spPr>
          <a:xfrm>
            <a:off x="2743200" y="3505320"/>
            <a:ext cx="1905120" cy="1676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, Aust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0-20T13:00:50Z</dcterms:modified>
  <cp:revision>22</cp:revision>
  <dc:subject/>
  <dc:title>United States</dc:title>
</cp:coreProperties>
</file>